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534-5435-45CF-8B2C-11696FF2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6890-CBBB-4548-9581-C5EB2BC3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201-58E1-41F5-8FC4-69B2DC6A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832-234A-4CCC-856E-D4E21ABF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55A-A323-4343-B28E-CD2C2F33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70B-614C-4102-AE31-19ADBE30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EF1-51D1-4218-AB15-2A98C84F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4325-6BFA-4234-B529-01DBFFB8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8FE-E533-45D3-9933-C7831D93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AC7-87BC-4B65-A029-459D9A52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3502-1A76-4AC2-9B6F-512F80C6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142E-85E0-4B04-AD8A-3D2046EA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EAF6-97A5-4CAC-A8C4-C9E4F2E841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лог как часть реч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715920"/>
            <a:ext cx="6192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 проекта: ученица 7 класса Пяткова С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Александр\Favorites\Pictures\d0b4d0b5d0bdd18c-d0bdd0b0d183d0bad0b8.jpg"/>
          <p:cNvPicPr/>
          <p:nvPr/>
        </p:nvPicPr>
        <p:blipFill>
          <a:blip r:embed="rId1"/>
          <a:stretch/>
        </p:blipFill>
        <p:spPr>
          <a:xfrm>
            <a:off x="6300720" y="2492280"/>
            <a:ext cx="2592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предлог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едло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служебная часть речи, которая выражает зависимость одних слов от других слов в словосочетании и предлож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Александр\Favorites\Pictures\wpeB.gif"/>
          <p:cNvPicPr/>
          <p:nvPr/>
        </p:nvPicPr>
        <p:blipFill>
          <a:blip r:embed="rId1"/>
          <a:stretch/>
        </p:blipFill>
        <p:spPr>
          <a:xfrm>
            <a:off x="1476360" y="3573360"/>
            <a:ext cx="640872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логи по происхождению бывают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612720" y="6858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извод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образуются путем перехода самостоятельных частей речи  в служебные, утрачивая при этом свое лексическое значение и морфологические призна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производны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наиболее древние предлоги, для которых в современном языке нельзя найти слов, послуживших основой для их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66512E-007 L 0.09566 -0.81614 E">
                                      <p:cBhvr>
                                        <p:cTn id="5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1175E-006 L 0.10538 -0.78238 E">
                                      <p:cBhvr>
                                        <p:cTn id="55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 структуре предлоги бываю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757080" y="6858000"/>
            <a:ext cx="820872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просты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стоят из одного сл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составны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 всегда производны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стоят из одного и более сл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Александр\Favorites\Pictures\90565465.png"/>
          <p:cNvPicPr/>
          <p:nvPr/>
        </p:nvPicPr>
        <p:blipFill>
          <a:blip r:embed="rId1"/>
          <a:stretch/>
        </p:blipFill>
        <p:spPr>
          <a:xfrm>
            <a:off x="3132000" y="4365720"/>
            <a:ext cx="284004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2886E-006 L 0.10191 -0.70398 E">
                                      <p:cBhvr>
                                        <p:cTn id="6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66512E-007 L 0.08298 -0.70768 E">
                                      <p:cBhvr>
                                        <p:cTn id="68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91489E-006 L 0.38767 -0.70744 E">
                                      <p:cBhvr>
                                        <p:cTn id="72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66327E-006 L 0.4368 -0.71785 E">
                                      <p:cBhvr>
                                        <p:cTn id="74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логи по значению  делятся на разряд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666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странственны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, на, за, под, около, вокруг, у, к, на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ременные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через, к, до, с, перед, в течение, в продолж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ичинны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, от, вследствие, из-за, ввид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браза действия: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с, без, в, п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бъектные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, об, про, с, по, насч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2.81221E-006 L -8.05556E-006 -0.77637 E">
                                      <p:cBhvr>
                                        <p:cTn id="9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61795E-006 L 0.00018 -0.78284 E">
                                      <p:cBhvr>
                                        <p:cTn id="94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10731E-006 L -0.00208 -0.80272 E">
                                      <p:cBhvr>
                                        <p:cTn id="98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33858E-006 L -0.00226 -0.80805 E">
                                      <p:cBhvr>
                                        <p:cTn id="102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1175E-006 L -0.00329 -0.82007 E">
                                      <p:cBhvr>
                                        <p:cTn id="106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ово правильное написание предлогов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26920" y="1557360"/>
          <a:ext cx="7490160" cy="4807080"/>
        </p:xfrm>
        <a:graphic>
          <a:graphicData uri="http://schemas.openxmlformats.org/drawingml/2006/table">
            <a:tbl>
              <a:tblPr/>
              <a:tblGrid>
                <a:gridCol w="2506680"/>
                <a:gridCol w="2486160"/>
                <a:gridCol w="249732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ли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ерез деф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43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ледств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мест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одоб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чё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ер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а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ре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еред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и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но: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еть в виду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смотря 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р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встреч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лед (за ни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е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родол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заклю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ил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 время (сн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но: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врем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ришё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цел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прич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мере (приближ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-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-п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-н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правильно употреблять предлоги в речи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I. Предлоги, употребляющиеся с одним падежо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родительным: без (безо), до, из (изо), от (ото), у, для, рад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дательным: к(ко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винительным: про, через (чрез), сквозь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творительным: над (надо), пред – перед( предо, передо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предложным: пр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II. Предлоги, употребляющиеся с двумя падежам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винительным 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ложным:в(во), на, о(об, обо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; сравните: войти в лес (вин.) – быть влесу (предл.), положить на стол (вин.) – лежать на столе (предл.), говорить о ноже (предл.) –порезаться о нож (вин.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родительным и творительным: между (меж); сравните; читать между строк (род.) –интервал между строками (твор.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винительным и творительным: за, под(подо); сравните: положил за шкаф, под стол (вин.) – лежит за шкафом, под столом (твор.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III. Предлоги, употребляющиеся с тремя падежам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винительным, дательным и предложным: по: сравните: воды по колено (вин.) –ударить по колену (дат.).–По ком звонит колокол (предл.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родительным, винительным и творительным: с (со); сравните. спросить с дочери (род.) –ростом с дочь (вин.) – мать с дочерью (твор.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потребляются только с дательным падеж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агода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н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пре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ерек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встреч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1143000" y="2143080"/>
            <a:ext cx="6286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20:02:42Z</dcterms:created>
  <dc:creator>Владелец</dc:creator>
  <dc:description/>
  <dc:language>en-US</dc:language>
  <cp:lastModifiedBy>aLex</cp:lastModifiedBy>
  <dcterms:modified xsi:type="dcterms:W3CDTF">2011-06-21T12:50:49Z</dcterms:modified>
  <cp:revision>50</cp:revision>
  <dc:subject/>
  <dc:title>Слайд 1</dc:title>
</cp:coreProperties>
</file>